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368BA-C634-4049-845C-AF569ACEC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4677-7387-464D-BD72-182D50F1E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1CB8B-666A-45D6-BE3A-B0F9A9624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368F3-C8BF-4A26-8CAA-B6136841B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54226-9959-4A4C-8F98-5A37FE610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0B5B5-C5A2-4334-B74A-BD8410524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74765-3B0C-482E-8EE2-E1C741FFF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E458F-8157-4C15-AE97-5244DA7F4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12241-42CF-4B95-B80B-4958732AB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7D0C8-BA8A-40F1-95EC-30205D747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35639-0839-4447-AC19-9F4021C4A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86452-ABE9-4A0F-A196-508475F3F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D7848-7E4A-4C47-B667-F58725F9B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7023E-129C-4C99-AD7D-C5C7FBCC5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6EA96-6B8F-4B5A-ACDC-91B8FD239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65671-A115-486D-9604-27574BBD0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E0283-F1BC-4AA1-BA1F-6E305AA31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31AFD7-DA3E-476F-9577-77F6FC5E6B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1ADAA-46CD-474C-A8DB-1C0551357F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0E71E-D076-4B78-99D2-9F4732119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0A3B5-9445-4A33-9D16-E3EC892C7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AAA30-4489-45C2-8DB5-18CACBFA5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6D338-6C83-46BE-AF81-38057E731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7848CD-5323-4E37-A4EC-DA27826AE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44228-EC45-461B-A64E-F7A7CD644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8A9E5-CC12-4560-8FDD-50FE1B134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DD2C9-E60A-4A10-BC24-C917C1FA5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0AB3D-68A3-4499-A734-F95A08360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1A19A2-D8F1-4CCC-9A2B-2582597D43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C9B2C2-BB31-4CDC-9DC3-A07D8AEF2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4009A8-6A4A-4324-8C9C-2859477DA4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D108B2-7F50-47FB-BB62-9CCA04E631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4ABEB-ADE4-4809-B4DD-F9DBF0DF15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42242-F1B3-49C3-B534-821584E1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B33B79-BE92-47A9-B1A7-349209F51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09C148-9241-493B-A87D-72F642C3B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111537-9418-46F3-A4EC-A16796742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D4110-D54E-4049-BFD8-60EDCEB0D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3B780-70E0-4AAF-ACEB-AF52EF029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1A8F1-E14C-4C4E-8C98-9E09E0C47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75C49-BA29-450D-B548-C2DEC53EB0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2DE5D8-57BD-4396-8B16-BB101B9669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A4D26F-84EC-49DC-B114-9B1AD69991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FBC46D-7A14-49CA-B11B-F3EEB74707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7375-1F68-49C6-9B86-382C1E2A6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1CC806-8C07-43A7-9EB5-BC495DB3D7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CE239F-3A47-4D54-9A0E-431CCDDEC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1C8403-2653-4524-B491-2656CD008D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406ADE-B198-4131-A519-145035E67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FCA6EB-E484-41A8-974A-24C12589D7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D4C296-0438-4513-8BC2-30214A77C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C0D125-C9C8-4110-93E9-92E114C70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D0B05-BE55-4E4C-B7C6-545E5A330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58B4AF-A847-4081-B338-E74D193065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2E0BE7-FCA0-4519-925B-BE2A5936C7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73F14-493D-4D0F-A370-0E7498D78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65AC57-AFE5-4D74-8F4F-F45D61F0E2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B13993-F57C-48A0-ABBF-A4E01D532E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803D7-D71F-4F02-ABC8-0653D6E850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AFB726-E192-40B8-9B3F-AC269A7B22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A8753-98C9-4C21-8586-3BB0A3FA0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4A9A9-7791-4FBB-9E53-743E5DE2D8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0FC3B-3CA0-4D24-A5D9-CA751CE3AD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C903C-76DB-4C66-8EE2-6E17CD72F1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0789F-DDFD-444F-A014-083581594F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E83C9-65D3-497A-96D3-B0A02229D2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930E3-0EB7-4DF4-95A4-FD040B2B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A680D2-1552-4156-A3AC-7E4AAF56C6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67A01E-148D-4CB7-84A7-E170C2C1EB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3AC2C0-50A0-4DB0-A531-EA079483EC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F1AAF0-431D-4EBD-9706-723D378D5C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E0011F-0C99-4E52-B269-9D20417843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31D5FC-0F8D-425B-8498-700026590B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077C7D-041D-44C6-9357-4AE23CB743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318A3D-77F0-4070-807F-15D11741A1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4D4720-EE6C-4301-84AB-AEE5F48EFF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3B4DAC-8D95-4862-AC07-16C533B280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3234-1AB6-47CC-96D2-E1E3EFC90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87AC4-3560-4E45-A630-2F0B9B5E9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E3844-FFB1-4BBB-BE0D-F2F071A5D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000D76-C271-434B-A2BC-03A9CACD3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6EB0D7-8AFD-4059-96A7-216CEFF2BC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BB026F-73F8-4B54-9689-AFE2C66EF6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E6AB8-A92A-4794-9103-0900E8C2F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47DE-9C3E-443C-AFED-B036C84F4AE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722D-9295-475C-A998-EB259C60AD2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485B-8ED9-4FDA-A781-1289B2EB262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4CEA-F1A3-457A-B15A-EE5BD9023AF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456E-6E35-4FE4-B76C-EDD0F57C5F7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0C14-6590-4E00-809C-77CEF6FB842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6E5A-0ADD-45D4-85D2-4C61EC4FFAA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04920"/>
            <a:ext cx="740700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Bullying Through the Use of Electronic Media and the Responsibility of Schools  in Regulating it</a:t>
            </a:r>
            <a:endParaRPr b="0" lang="en-US" sz="3900" spc="-1" strike="noStrike">
              <a:solidFill>
                <a:srgbClr val="572314"/>
              </a:solidFill>
              <a:latin typeface="Gill Sans MT"/>
            </a:endParaRPr>
          </a:p>
        </p:txBody>
      </p:sp>
      <p:pic>
        <p:nvPicPr>
          <p:cNvPr id="319" name="Picture 2" descr="C:\Users\Merlene\AppData\Local\Microsoft\Windows\Temporary Internet Files\Content.IE5\EFR6W61R\MP900341934[1].jpg"/>
          <p:cNvPicPr/>
          <p:nvPr/>
        </p:nvPicPr>
        <p:blipFill>
          <a:blip r:embed="rId1"/>
          <a:stretch/>
        </p:blipFill>
        <p:spPr>
          <a:xfrm>
            <a:off x="1447920" y="2666880"/>
            <a:ext cx="1836720" cy="2575080"/>
          </a:xfrm>
          <a:prstGeom prst="rect">
            <a:avLst/>
          </a:prstGeom>
          <a:ln w="0">
            <a:noFill/>
          </a:ln>
        </p:spPr>
      </p:pic>
      <p:pic>
        <p:nvPicPr>
          <p:cNvPr id="320" name="Picture 4" descr="C:\Users\Merlene\AppData\Local\Microsoft\Windows\Temporary Internet Files\Content.IE5\QSHAJUPZ\MP900422352[1].jpg"/>
          <p:cNvPicPr/>
          <p:nvPr/>
        </p:nvPicPr>
        <p:blipFill>
          <a:blip r:embed="rId2"/>
          <a:stretch/>
        </p:blipFill>
        <p:spPr>
          <a:xfrm>
            <a:off x="6324480" y="2438280"/>
            <a:ext cx="2427480" cy="2803680"/>
          </a:xfrm>
          <a:prstGeom prst="rect">
            <a:avLst/>
          </a:prstGeom>
          <a:ln w="0">
            <a:noFill/>
          </a:ln>
        </p:spPr>
      </p:pic>
      <p:pic>
        <p:nvPicPr>
          <p:cNvPr id="321" name="Picture 5" descr="C:\Users\Merlene\AppData\Local\Microsoft\Windows\Temporary Internet Files\Content.IE5\EFR6W61R\MP900422734[1].jpg"/>
          <p:cNvPicPr/>
          <p:nvPr/>
        </p:nvPicPr>
        <p:blipFill>
          <a:blip r:embed="rId3"/>
          <a:stretch/>
        </p:blipFill>
        <p:spPr>
          <a:xfrm>
            <a:off x="4008600" y="2800440"/>
            <a:ext cx="1790640" cy="1790640"/>
          </a:xfrm>
          <a:prstGeom prst="rect">
            <a:avLst/>
          </a:prstGeom>
          <a:ln w="0">
            <a:noFill/>
          </a:ln>
        </p:spPr>
      </p:pic>
      <p:sp>
        <p:nvSpPr>
          <p:cNvPr id="322" name="TextBox 4"/>
          <p:cNvSpPr/>
          <p:nvPr/>
        </p:nvSpPr>
        <p:spPr>
          <a:xfrm>
            <a:off x="3429000" y="5562720"/>
            <a:ext cx="2895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Alicia Kellier</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CBSE 7201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Fall 2012</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References:</a:t>
            </a:r>
            <a:endParaRPr b="0" lang="en-US" sz="43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ff, D.L., Shariff, S.(2007).  Cyber Bullying: Clarifying Legal Boundaries for School Supervision in Cyberspace. International Journal of  Cyber Criminology 1(1), 76-115.</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uesmann, L.R. (1986).  Psychological Processes Promoting the Relation between Exposure to Media Violence and Aggressive Behavior by the Viewer.  Journal of Social Issues 42,125–39.</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owalski, R.M., Limber, S.P. (2007). Electronic Bullying Among Middle School Students. Journal of Adolescent Health 41 S22–S30</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rcmar, M., Valkenberg, P. (1999). A Scale to Assess Children’s Moral Interpretations of Justified and Unjustified Violence and Its Relationship to Television Viewing. Communication Research. 26:5, 608–34.</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errell, K., Gueldner, B., Ross, S., &amp; Isava, D. (2008). How Effective are School Bullying Intervention Programs? A Meta-analysis of Intervention Research.  School Psychology Quarterly, 23(1), 26–42.</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atchin, J. W. &amp; Hinduja, S. (2011). Traditional and Nontraditional Bullying Among Youth: A Test of General Strain Theory. Youth and Society, 43(2) 727-751..</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askauskas, J., Stoltz, A.D. (2007). Involvement in Traditional and Electronic Bullying among Adolescents.  Developmental Psychology. 43:3, 564–75.</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iegle, D. (2010). Cyber Bullying and  Sexting: Technology  Abuses of the 21st Century. Gifted Child Today, 33(n2) 14-16.</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ferences:</a:t>
            </a:r>
            <a:endParaRPr b="0" lang="en-US" sz="43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mith, P. K., Mahdavi, J., Carvalho, M., Fisher, S., Russell, S., &amp; Tippett, N. (2008).  Cyber Bullying: Its Nature and Impact in Secondary School Pupils. Journal of Child Psychology and Psychiatry, 49, 376–385.</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alkenburg, P., Peter, J., Schouten, A. (2006). Friend Networking Sites and Their Relationship to Adolescents’ Well-Being and Social Self-Esteem. CyberPsychology &amp; Behavior. 9:5,584–90.</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illard, N. (2007). The Authority and Responsibility of School Officials in Responding to Cyberbullying. Journal of Adolescent Health, 41(Suppl):S64–S65.</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orthen, M. (2007). Education Policy Implication From the Expert Panel on Electronic Media and Youth Violence. Journal of Adolescent Health, 41,S61–S63</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barra, M., West, M.D., Leaf, P. (2007). Examining the Overlap in Internet Harassment and School Bullying: Implications for School Intervention. Journal of Adolescent Health,41:S42–S50.</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A:</a:t>
            </a:r>
            <a:endParaRPr b="0" lang="en-US" sz="4300" spc="-1" strike="noStrike">
              <a:solidFill>
                <a:srgbClr val="572314"/>
              </a:solidFill>
              <a:latin typeface="Gill Sans MT"/>
            </a:endParaRPr>
          </a:p>
        </p:txBody>
      </p:sp>
      <p:sp>
        <p:nvSpPr>
          <p:cNvPr id="348" name=""/>
          <p:cNvSpPr txBox="1"/>
          <p:nvPr/>
        </p:nvSpPr>
        <p:spPr>
          <a:xfrm>
            <a:off x="1371600" y="1219320"/>
            <a:ext cx="7499520" cy="50292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1400" spc="-1" strike="noStrike">
                <a:solidFill>
                  <a:srgbClr val="000000"/>
                </a:solidFill>
                <a:latin typeface="Gill Sans MT"/>
              </a:rPr>
              <a:t>Date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Principal Consent Form</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My name is Alicia Kellier and I am a graduate student at Brooklyn College.  I am currently conducting an action research project that delves into the topic of bullying through the use of electronic media.  I am seeking your permission to conduct interviews through surveys with the students in your school.  The surveys are completely voluntary and would involve a parental consent letter beforehand.</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I assure you that all data that will be collected will only be used for the purpose of my research paper and will be shared with the students and faculty at Brooklyn College.  It is a completely anonymous survey that will not include the school’s name, teacher’s name, or the names of the students that participate.  The procedure involves the cooperating teacher administering a 10 minute survey to the students that they are to answer openly and honestly.  There is no compensation involved and is strictly to help me garner information for my research.</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our assistance in this academic endeavor is greatly appreciated.  Should you require any additional information please contact me at 718-916-8172.</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ermission granted:  Yes___________    No_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ignature________________________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B:</a:t>
            </a:r>
            <a:endParaRPr b="0" lang="en-US" sz="4300" spc="-1" strike="noStrike">
              <a:solidFill>
                <a:srgbClr val="572314"/>
              </a:solidFill>
              <a:latin typeface="Gill Sans MT"/>
            </a:endParaRPr>
          </a:p>
        </p:txBody>
      </p:sp>
      <p:sp>
        <p:nvSpPr>
          <p:cNvPr id="350" name=""/>
          <p:cNvSpPr txBox="1"/>
          <p:nvPr/>
        </p:nvSpPr>
        <p:spPr>
          <a:xfrm>
            <a:off x="1434960" y="1066680"/>
            <a:ext cx="7499520" cy="5181840"/>
          </a:xfrm>
          <a:prstGeom prst="rect">
            <a:avLst/>
          </a:prstGeom>
          <a:noFill/>
          <a:ln w="0">
            <a:noFill/>
          </a:ln>
        </p:spPr>
        <p:txBody>
          <a:bodyPr anchor="t">
            <a:normAutofit fontScale="97000"/>
          </a:bodyPr>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1400" spc="-1" strike="noStrike">
                <a:solidFill>
                  <a:srgbClr val="000000"/>
                </a:solidFill>
                <a:latin typeface="Gill Sans MT"/>
              </a:rPr>
              <a:t>Date__________</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Teacher Consent Form</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My name is Alicia Kellier and I am a graduate student at Brooklyn College.  I am currently conducting an action research project that delves into the topic of bullying through the use of electronic media.  I am seeking your permission to conduct interviews through surveys with the students in your class and through you taking a brief survey as well. I have already attained permission from the principal to interview some teachers, and I seek your permission as well. The surveys are completely voluntary.</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I assure you that all data that will be collected will only be used for the purpose of my research paper and will only be shared with the students and faculty at Brooklyn College.  It is a completely anonymous survey that will not include the school’s name, or your name. The procedure involves the cooperating teacher administering a 10 minute survey to the students that they are to answer openly and honestly.  It also involves your participation in a brief survey.  There is no compensation involved and is strictly to help me garner information for my research.</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our assistance in this academic endeavor is greatly appreciated.  Should you require any additional information please contact me at 718-916-8172.</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ermission granted:  Yes___________    No___________</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ignature__________________________________</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C:</a:t>
            </a:r>
            <a:endParaRPr b="0" lang="en-US" sz="4300" spc="-1" strike="noStrike">
              <a:solidFill>
                <a:srgbClr val="572314"/>
              </a:solidFill>
              <a:latin typeface="Gill Sans MT"/>
            </a:endParaRPr>
          </a:p>
        </p:txBody>
      </p:sp>
      <p:sp>
        <p:nvSpPr>
          <p:cNvPr id="352" name=""/>
          <p:cNvSpPr txBox="1"/>
          <p:nvPr/>
        </p:nvSpPr>
        <p:spPr>
          <a:xfrm>
            <a:off x="1434960" y="1066680"/>
            <a:ext cx="7499520" cy="51818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Parental Consent Form</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My name is Alicia Kellier and I am a graduate student at Brooklyn College.  I am currently conducting an action research project that delves into the topic of bullying through the use of electronic media.  I am seeking your permission to conduct a survey with your child.  I have already attained permission from the principal and your child’s teacher, and I seek your permission as well. The surveys are completely voluntary and anonymous. It will be conducted in class along with other students.  The survey should take no more than 5-10 minutes.</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I assure you that all data that will be collected will only be used for the purpose of my research paper and will only be shared with the students and faculty at Brooklyn College.  It is a completely anonymous survey that will not include the school’s name, your name, or your child’s name. The procedure involves the cooperating teacher administering the survey to the students that they are to answer openly and honestly.  There is no compensation involved and is strictly to help me garner information for my research.  Your child’s academic record will not be affected.</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our assistance in this academic endeavor is greatly appreciated.  Should you require any additional information please contact the school or myself at Likellier@aol.com.</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ermission granted:  Yes___________    No_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ignature__________________________________  Date____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D:</a:t>
            </a:r>
            <a:endParaRPr b="0" lang="en-US" sz="4300" spc="-1" strike="noStrike">
              <a:solidFill>
                <a:srgbClr val="572314"/>
              </a:solidFill>
              <a:latin typeface="Gill Sans MT"/>
            </a:endParaRPr>
          </a:p>
        </p:txBody>
      </p:sp>
      <p:sp>
        <p:nvSpPr>
          <p:cNvPr id="354" name=""/>
          <p:cNvSpPr txBox="1"/>
          <p:nvPr/>
        </p:nvSpPr>
        <p:spPr>
          <a:xfrm>
            <a:off x="1434960" y="1066680"/>
            <a:ext cx="7499520" cy="55627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1000" spc="-1" strike="noStrike">
                <a:solidFill>
                  <a:srgbClr val="000000"/>
                </a:solidFill>
                <a:latin typeface="Gill Sans MT"/>
              </a:rPr>
              <a:t>Student Survey</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 Do you have a computer at hom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 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Do you have a cell phon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 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Do you know what the term bullying means?</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 ____  No____  Not Sure_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Have you ever bullied another student?</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____  No____    maybe_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Have you ever hit anyone on purpos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If yes, how many times? 1___  2-3 ___ 4+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 Have you ever knowingly kicked anyon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If yes, how many times? 1___  2-3 ___ 4+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 Have you ever pushed/slapped/or tripped someone on purpos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 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If yes, how many times? 1___  2-3 ___ 4+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 Have you ever seen another student getting bullied? </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 </a:t>
            </a:r>
            <a:r>
              <a:rPr b="0" lang="en-US" sz="1000" spc="-1" strike="noStrike">
                <a:solidFill>
                  <a:srgbClr val="000000"/>
                </a:solidFill>
                <a:latin typeface="Gill Sans MT"/>
              </a:rPr>
              <a:t>Yes ____  No 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If yes have you ever stepped in to help them?</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D: </a:t>
            </a:r>
            <a:r>
              <a:rPr b="0" lang="en-US" sz="2400" spc="-1" strike="noStrike">
                <a:solidFill>
                  <a:srgbClr val="572314"/>
                </a:solidFill>
                <a:latin typeface="Gill Sans MT"/>
              </a:rPr>
              <a:t>(cont’d)</a:t>
            </a:r>
            <a:endParaRPr b="0" lang="en-US" sz="2400" spc="-1" strike="noStrike">
              <a:solidFill>
                <a:srgbClr val="572314"/>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9. Have you ever bullied someone on the internet?</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 ___ No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Have you ever bullied someone by texting them?</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 ____  No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 Have you ever bullied someone on facebook, youtube, twitter, or myspace?</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_____  No 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 Do you ever say mean or unkind words to people so you can hurt their feelings?</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____  No____  Sometimes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3. Have you ever participated in bullying someone online?</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 ____  No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4. Have you ever been bullied?</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____  No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f yes, how?</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nline___ By phone___  in person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 How old are you?</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______</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E:</a:t>
            </a:r>
            <a:endParaRPr b="0" lang="en-US" sz="4300" spc="-1" strike="noStrike">
              <a:solidFill>
                <a:srgbClr val="572314"/>
              </a:solidFill>
              <a:latin typeface="Gill Sans MT"/>
            </a:endParaRPr>
          </a:p>
        </p:txBody>
      </p:sp>
      <p:sp>
        <p:nvSpPr>
          <p:cNvPr id="358" name=""/>
          <p:cNvSpPr txBox="1"/>
          <p:nvPr/>
        </p:nvSpPr>
        <p:spPr>
          <a:xfrm>
            <a:off x="1434960" y="1066680"/>
            <a:ext cx="7499520" cy="5181840"/>
          </a:xfrm>
          <a:prstGeom prst="rect">
            <a:avLst/>
          </a:prstGeom>
          <a:noFill/>
          <a:ln w="0">
            <a:noFill/>
          </a:ln>
        </p:spPr>
        <p:txBody>
          <a:bodyPr anchor="t">
            <a:normAutofit fontScale="90000"/>
          </a:bodyPr>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r>
              <a:rPr b="0" lang="en-US" sz="900" spc="-1" strike="noStrike">
                <a:solidFill>
                  <a:srgbClr val="000000"/>
                </a:solidFill>
                <a:latin typeface="Gill Sans MT"/>
              </a:rPr>
              <a:t>Teacher Survey</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 Have you ever witnessed bullying in school?</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If so, how often?</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r>
              <a:rPr b="0" lang="en-US" sz="900" spc="-1" strike="noStrike">
                <a:solidFill>
                  <a:srgbClr val="000000"/>
                </a:solidFill>
                <a:latin typeface="Gill Sans MT"/>
              </a:rPr>
              <a:t>1-3/week___  4-7/ week___ 8+/week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 Do you know any students that have been bullied through the use of electronic media? (i.e., computers, cell phones)</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 Do you think that bullying through the use of electronic media is a problem in schools today?</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 Do you think that traditional forms of bullying is a problem in schools today?</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_____  No___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 Do you think that it is the obligation of schools to implement rules in regard to traditional forms of bullying?</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 Do you think that it is the obligation of schools to implement rules in regards to bullying through the use of electronic media?</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 Whose </a:t>
            </a:r>
            <a:r>
              <a:rPr b="1" lang="en-US" sz="900" spc="-1" strike="noStrike">
                <a:solidFill>
                  <a:srgbClr val="000000"/>
                </a:solidFill>
                <a:latin typeface="Gill Sans MT"/>
              </a:rPr>
              <a:t>legal</a:t>
            </a:r>
            <a:r>
              <a:rPr b="0" lang="en-US" sz="900" spc="-1" strike="noStrike">
                <a:solidFill>
                  <a:srgbClr val="000000"/>
                </a:solidFill>
                <a:latin typeface="Gill Sans MT"/>
              </a:rPr>
              <a:t> responsibility is it to protect kids from being bullied on the internet?  (you may choose more than 1 answer)</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Parents____ Teachers____ School administration___ Police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Whose </a:t>
            </a:r>
            <a:r>
              <a:rPr b="1" lang="en-US" sz="900" spc="-1" strike="noStrike">
                <a:solidFill>
                  <a:srgbClr val="000000"/>
                </a:solidFill>
                <a:latin typeface="Gill Sans MT"/>
              </a:rPr>
              <a:t>mora</a:t>
            </a:r>
            <a:r>
              <a:rPr b="0" lang="en-US" sz="900" spc="-1" strike="noStrike">
                <a:solidFill>
                  <a:srgbClr val="000000"/>
                </a:solidFill>
                <a:latin typeface="Gill Sans MT"/>
              </a:rPr>
              <a:t>l responsibility is it?</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Parents____ Teachers____ School administration___ Police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 Does your </a:t>
            </a:r>
            <a:r>
              <a:rPr b="1" lang="en-US" sz="900" spc="-1" strike="noStrike">
                <a:solidFill>
                  <a:srgbClr val="000000"/>
                </a:solidFill>
                <a:latin typeface="Gill Sans MT"/>
              </a:rPr>
              <a:t>school</a:t>
            </a:r>
            <a:r>
              <a:rPr b="0" lang="en-US" sz="900" spc="-1" strike="noStrike">
                <a:solidFill>
                  <a:srgbClr val="000000"/>
                </a:solidFill>
                <a:latin typeface="Gill Sans MT"/>
              </a:rPr>
              <a:t> currently have a plan in place to punish children who are found to have bullied children on the internet or through cell phones?</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 No___ Don’t know 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Does your </a:t>
            </a:r>
            <a:r>
              <a:rPr b="1" lang="en-US" sz="900" spc="-1" strike="noStrike">
                <a:solidFill>
                  <a:srgbClr val="000000"/>
                </a:solidFill>
                <a:latin typeface="Gill Sans MT"/>
              </a:rPr>
              <a:t>state</a:t>
            </a:r>
            <a:r>
              <a:rPr b="0" lang="en-US" sz="900" spc="-1" strike="noStrike">
                <a:solidFill>
                  <a:srgbClr val="000000"/>
                </a:solidFill>
                <a:latin typeface="Gill Sans MT"/>
              </a:rPr>
              <a:t>?  Yes____ No ____ Don’t know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 Does your </a:t>
            </a:r>
            <a:r>
              <a:rPr b="1" lang="en-US" sz="900" spc="-1" strike="noStrike">
                <a:solidFill>
                  <a:srgbClr val="000000"/>
                </a:solidFill>
                <a:latin typeface="Gill Sans MT"/>
              </a:rPr>
              <a:t>school</a:t>
            </a:r>
            <a:r>
              <a:rPr b="0" lang="en-US" sz="900" spc="-1" strike="noStrike">
                <a:solidFill>
                  <a:srgbClr val="000000"/>
                </a:solidFill>
                <a:latin typeface="Gill Sans MT"/>
              </a:rPr>
              <a:t> currently have a plan in place to punish children who are found to have </a:t>
            </a:r>
            <a:r>
              <a:rPr b="1" lang="en-US" sz="900" spc="-1" strike="noStrike">
                <a:solidFill>
                  <a:srgbClr val="000000"/>
                </a:solidFill>
                <a:latin typeface="Gill Sans MT"/>
              </a:rPr>
              <a:t>bullied children, through traditional methods</a:t>
            </a:r>
            <a:r>
              <a:rPr b="0" lang="en-US" sz="900" spc="-1" strike="noStrike">
                <a:solidFill>
                  <a:srgbClr val="000000"/>
                </a:solidFill>
                <a:latin typeface="Gill Sans MT"/>
              </a:rPr>
              <a:t>, in schools?</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_ No 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Does your state?   Yes 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 Comments on electronic bullying vs. traditional bullying:</a:t>
            </a:r>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1" lang="en-US" sz="4300" spc="-1" strike="noStrike" u="sng">
                <a:solidFill>
                  <a:srgbClr val="572314"/>
                </a:solidFill>
                <a:uFillTx/>
                <a:latin typeface="Gill Sans MT"/>
              </a:rPr>
              <a:t>Table of Contents:</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ntroduction</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Statement of the problem</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ypothesi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iterature review</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Method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ference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A- Principal consent</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B- Teacher consent</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C- Parent consent</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D- Student survey</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E- Teacher survey</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 </a:t>
            </a:r>
            <a:r>
              <a:rPr b="1" lang="en-US" sz="4300" spc="-1" strike="noStrike" u="sng">
                <a:solidFill>
                  <a:srgbClr val="572314"/>
                </a:solidFill>
                <a:uFillTx/>
                <a:latin typeface="Gill Sans MT"/>
              </a:rPr>
              <a:t>Introduction:</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e use of electronic media, such as cell phones and computers, to bully others is steadily on the rise.  It is a problem that has gone into unchartered territory, as we are now seeing the full ramifications from it.  Children and teenagers are the ones that are highly affected by this.  The problem arises when students use electronic media to bully their classmates.         </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	</a:t>
            </a:r>
            <a:r>
              <a:rPr b="0" lang="en-US" sz="2500" spc="-1" strike="noStrike">
                <a:solidFill>
                  <a:srgbClr val="000000"/>
                </a:solidFill>
                <a:latin typeface="Gill Sans MT"/>
              </a:rPr>
              <a:t>        </a:t>
            </a:r>
            <a:r>
              <a:rPr b="0" lang="en-US" sz="2500" spc="-1" strike="noStrike">
                <a:solidFill>
                  <a:srgbClr val="000000"/>
                </a:solidFill>
                <a:latin typeface="Gill Sans MT"/>
              </a:rPr>
              <a:t>Where then does the </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responsibility lie when </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trying to curb this specific</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behavior, the school, parents,</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or law enforcement?</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pic>
        <p:nvPicPr>
          <p:cNvPr id="327" name="Picture 2" descr="C:\Users\Merlene\AppData\Local\Microsoft\Windows\Temporary Internet Files\Content.IE5\Y7POTI35\MP900405644[1].jpg"/>
          <p:cNvPicPr/>
          <p:nvPr/>
        </p:nvPicPr>
        <p:blipFill>
          <a:blip r:embed="rId1"/>
          <a:stretch/>
        </p:blipFill>
        <p:spPr>
          <a:xfrm>
            <a:off x="5486400" y="152280"/>
            <a:ext cx="2133720" cy="1219320"/>
          </a:xfrm>
          <a:prstGeom prst="rect">
            <a:avLst/>
          </a:prstGeom>
          <a:ln w="0">
            <a:noFill/>
          </a:ln>
        </p:spPr>
      </p:pic>
      <p:pic>
        <p:nvPicPr>
          <p:cNvPr id="328" name="Picture 5" descr="C:\Users\Merlene\AppData\Local\Microsoft\Windows\Temporary Internet Files\Content.IE5\EFR6W61R\MP900448715[1].jpg"/>
          <p:cNvPicPr/>
          <p:nvPr/>
        </p:nvPicPr>
        <p:blipFill>
          <a:blip r:embed="rId2"/>
          <a:stretch/>
        </p:blipFill>
        <p:spPr>
          <a:xfrm>
            <a:off x="1265400" y="4038480"/>
            <a:ext cx="251460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1" lang="en-US" sz="3900" spc="-1" strike="noStrike" u="sng">
                <a:solidFill>
                  <a:srgbClr val="572314"/>
                </a:solidFill>
                <a:uFillTx/>
                <a:latin typeface="Gill Sans MT"/>
              </a:rPr>
              <a:t>Statement of the  Problem:</a:t>
            </a:r>
            <a:endParaRPr b="0" lang="en-US" sz="39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he incidences of bullying through the use of technology is on the rise.  There is a call for school administrators to try to rectify, or police, the growing problem.  Many question whether it is a problem that schools are able to adequately handle, as the majority of this type of bullying happens outside of school.  A student’s right to free speech is also in question as well as their right to privacy.</a:t>
            </a: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pic>
        <p:nvPicPr>
          <p:cNvPr id="331" name="Picture 2" descr="C:\Users\Merlene\AppData\Local\Microsoft\Windows\Temporary Internet Files\Content.IE5\3CBO2XV3\MP910220809[1].jpg"/>
          <p:cNvPicPr/>
          <p:nvPr/>
        </p:nvPicPr>
        <p:blipFill>
          <a:blip r:embed="rId1"/>
          <a:stretch/>
        </p:blipFill>
        <p:spPr>
          <a:xfrm>
            <a:off x="1752480" y="1295280"/>
            <a:ext cx="698508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1" lang="en-US" sz="4300" spc="-1" strike="noStrike" u="sng">
                <a:solidFill>
                  <a:srgbClr val="572314"/>
                </a:solidFill>
                <a:uFillTx/>
                <a:latin typeface="Gill Sans MT"/>
              </a:rPr>
              <a:t>Hypothesis:</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ypothesis 1: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f strict rules were to be put into place, such as expulsion, and it could be proven that a child used electronic media to bully another child,  then that would be a way to take action within the school limitations.</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ypothesis 2: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chool administrators are possibly infringing on the rights of students in regards to freedom of speech and it can also be an invasion of privacy.  What a student does in his/her free time outside of the confines of the school is their own business, most would say.  Thus, it is not a problem that can be monitored by schools officials.</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1" lang="en-US" sz="4300" spc="-1" strike="noStrike" u="sng">
                <a:solidFill>
                  <a:srgbClr val="572314"/>
                </a:solidFill>
                <a:uFillTx/>
                <a:latin typeface="Gill Sans MT"/>
              </a:rPr>
              <a:t>Literature Review:</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Theorists:</a:t>
            </a:r>
            <a:endParaRPr b="0" lang="en-US" sz="20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The general strain theory was proposed by criminologist Robert Agnew.  The nature of the theory is that it examines the possible causes of strain in society, particularly amongst youth. </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Gill Sans MT"/>
              </a:rPr>
              <a:t>(Raskauskas, J., Stoltz, A.D. 2007), (Feshbach, N., Roe, K. 1968)</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000000"/>
                </a:solidFill>
                <a:uFillTx/>
                <a:latin typeface="Gill Sans MT"/>
              </a:rPr>
              <a:t>Legalities:</a:t>
            </a:r>
            <a:endParaRPr b="0" lang="en-US" sz="20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Need for setting legal boundaries for schools in terms of internet use and bullying.  It suggests that every entity, including schools and the social sites, should be held liable for any acts of cyber bullying once they are made aware of it. </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barra, M., West, M.D., Leaf, P. 2007), (Worthen, M. 2007), (David-Ferdon, C., Feldman-Hertz, M. 2007), (</a:t>
            </a:r>
            <a:r>
              <a:rPr b="0" lang="de-DE" sz="1400" spc="-1" strike="noStrike">
                <a:solidFill>
                  <a:srgbClr val="000000"/>
                </a:solidFill>
                <a:latin typeface="Gill Sans MT"/>
              </a:rPr>
              <a:t>Hoff, D.L., Shariff, S. 2007)</a:t>
            </a:r>
            <a:r>
              <a:rPr b="0" lang="en-US" sz="1400" spc="-1" strike="noStrike">
                <a:solidFill>
                  <a:srgbClr val="000000"/>
                </a:solidFill>
                <a:latin typeface="Gill Sans MT"/>
              </a:rPr>
              <a:t> , (Brown, K., Margaret, J., Wanda, C. 2006) </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Strategies:</a:t>
            </a:r>
            <a:endParaRPr b="0" lang="en-US" sz="20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eveloping appropriate strategies :  (</a:t>
            </a:r>
            <a:r>
              <a:rPr b="0" lang="de-DE" sz="1400" spc="-1" strike="noStrike">
                <a:solidFill>
                  <a:srgbClr val="000000"/>
                </a:solidFill>
                <a:latin typeface="Gill Sans MT"/>
              </a:rPr>
              <a:t>Hoff, D.L., Shariff, S. 2007), (Dilmac, B. 2009)</a:t>
            </a:r>
            <a:endParaRPr b="0" lang="en-US" sz="14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ncourage university research and implement teacher training and staff development.</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illard, N. )</a:t>
            </a:r>
            <a:endParaRPr b="0" lang="en-US" sz="14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mpowerment of youth in using critical thinking skills:  (Boneva, B.S. 2006), (</a:t>
            </a:r>
            <a:r>
              <a:rPr b="0" lang="pl-PL" sz="1400" spc="-1" strike="noStrike">
                <a:solidFill>
                  <a:srgbClr val="000000"/>
                </a:solidFill>
                <a:latin typeface="Gill Sans MT"/>
              </a:rPr>
              <a:t>Agatston, P., Kowalski, R., Limber, S. 2007)</a:t>
            </a:r>
            <a:r>
              <a:rPr b="0" lang="en-US" sz="1400" spc="-1" strike="noStrike">
                <a:solidFill>
                  <a:srgbClr val="000000"/>
                </a:solidFill>
                <a:latin typeface="Gill Sans MT"/>
              </a:rPr>
              <a:t>, (</a:t>
            </a:r>
            <a:r>
              <a:rPr b="0" lang="fi-FI" sz="1400" spc="-1" strike="noStrike">
                <a:solidFill>
                  <a:srgbClr val="000000"/>
                </a:solidFill>
                <a:latin typeface="Gill Sans MT"/>
              </a:rPr>
              <a:t>Raskauskas, J., Stoltz, A.D. 2007), (</a:t>
            </a:r>
            <a:r>
              <a:rPr b="0" lang="nl-NL" sz="1400" spc="-1" strike="noStrike">
                <a:solidFill>
                  <a:srgbClr val="000000"/>
                </a:solidFill>
                <a:latin typeface="Gill Sans MT"/>
              </a:rPr>
              <a:t>Valkenburg, P., Schouten, A., Peter, J. 2005)</a:t>
            </a:r>
            <a:endParaRPr b="0" lang="en-US" sz="1400" spc="-1" strike="noStrike">
              <a:solidFill>
                <a:srgbClr val="000000"/>
              </a:solidFill>
              <a:latin typeface="Gill Sans MT"/>
            </a:endParaRPr>
          </a:p>
          <a:p>
            <a:pPr>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572314"/>
                </a:solidFill>
                <a:uFillTx/>
                <a:latin typeface="Gill Sans MT"/>
              </a:rPr>
              <a:t>Literature Review: </a:t>
            </a:r>
            <a:r>
              <a:rPr b="1" lang="en-US" sz="1200" spc="-1" strike="noStrike" u="sng">
                <a:solidFill>
                  <a:srgbClr val="572314"/>
                </a:solidFill>
                <a:uFillTx/>
                <a:latin typeface="Gill Sans MT"/>
              </a:rPr>
              <a:t>(</a:t>
            </a:r>
            <a:r>
              <a:rPr b="1" lang="en-US" sz="1100" spc="-1" strike="noStrike" u="sng">
                <a:solidFill>
                  <a:srgbClr val="572314"/>
                </a:solidFill>
                <a:uFillTx/>
                <a:latin typeface="Gill Sans MT"/>
              </a:rPr>
              <a:t>cont’d)</a:t>
            </a:r>
            <a:endParaRPr b="0" lang="en-US" sz="11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Gill Sans MT"/>
              </a:rPr>
              <a:t>Health and Safety:</a:t>
            </a:r>
            <a:endParaRPr b="0" lang="en-US" sz="3100" spc="-1" strike="noStrike">
              <a:solidFill>
                <a:srgbClr val="000000"/>
              </a:solidFill>
              <a:latin typeface="Gill Sans MT"/>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ccording to the Center for Disease Control’s findings, bullying through electronic means, is becoming an emerging health crisis. (David-Ferdon, C., Feldman-Hertz, M. 2007), (Gross, E., Juvonen, J., Gable, S. 2002), (Siegle, D. 2010), (</a:t>
            </a:r>
            <a:r>
              <a:rPr b="0" lang="nl-NL" sz="2000" spc="-1" strike="noStrike">
                <a:solidFill>
                  <a:srgbClr val="000000"/>
                </a:solidFill>
                <a:latin typeface="Gill Sans MT"/>
              </a:rPr>
              <a:t>Krcmar, M., Valkenberg, P. 1999), (</a:t>
            </a:r>
            <a:r>
              <a:rPr b="0" lang="en-US" sz="2000" spc="-1" strike="noStrike">
                <a:solidFill>
                  <a:srgbClr val="000000"/>
                </a:solidFill>
                <a:latin typeface="Gill Sans MT"/>
              </a:rPr>
              <a:t>Huesmann, L.R.1986)</a:t>
            </a:r>
            <a:endParaRPr b="0" lang="en-US" sz="2000" spc="-1" strike="noStrike">
              <a:solidFill>
                <a:srgbClr val="000000"/>
              </a:solidFill>
              <a:latin typeface="Gill Sans MT"/>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Gill Sans MT"/>
              </a:rPr>
              <a:t>Media:</a:t>
            </a:r>
            <a:endParaRPr b="0" lang="en-US" sz="2900" spc="-1" strike="noStrike">
              <a:solidFill>
                <a:srgbClr val="000000"/>
              </a:solidFill>
              <a:latin typeface="Gill Sans MT"/>
            </a:endParaRPr>
          </a:p>
          <a:p>
            <a:pPr>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the article by Smith, Mahdavi, Carvalho, Fisher, Russel and Tippet, it targets students aged 11-16 in its research.  It compares traditional and cyber bullying methods.  The article by Kowalski and  Limber tackles the issue of electronic bullying amongst middle school students.  This article ascertains that this is the demographic that is mostly affected by cyber bullying. (Gross, E.F. 2004), (Gentile, D., Walsh, D. 2002), (Boneva, B.S. 2006), (</a:t>
            </a:r>
            <a:r>
              <a:rPr b="0" lang="fi-FI" sz="2000" spc="-1" strike="noStrike">
                <a:solidFill>
                  <a:srgbClr val="000000"/>
                </a:solidFill>
                <a:latin typeface="Gill Sans MT"/>
              </a:rPr>
              <a:t>Raskauskas, J., Stoltz, A.D. (2007), </a:t>
            </a:r>
            <a:endParaRPr b="0" lang="en-US" sz="2000" spc="-1" strike="noStrike">
              <a:solidFill>
                <a:srgbClr val="000000"/>
              </a:solidFill>
              <a:latin typeface="Gill Sans MT"/>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371240" y="228240"/>
            <a:ext cx="7497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u="sng">
                <a:solidFill>
                  <a:srgbClr val="572314"/>
                </a:solidFill>
                <a:uFillTx/>
                <a:latin typeface="Gill Sans MT"/>
              </a:rPr>
              <a:t>Methodology:</a:t>
            </a:r>
            <a:endParaRPr b="0" lang="en-US" sz="4300" spc="-1" strike="noStrike">
              <a:solidFill>
                <a:srgbClr val="572314"/>
              </a:solidFill>
              <a:latin typeface="Gill Sans MT"/>
            </a:endParaRPr>
          </a:p>
        </p:txBody>
      </p:sp>
      <p:sp>
        <p:nvSpPr>
          <p:cNvPr id="339" name=""/>
          <p:cNvSpPr txBox="1"/>
          <p:nvPr/>
        </p:nvSpPr>
        <p:spPr>
          <a:xfrm>
            <a:off x="926640" y="1142640"/>
            <a:ext cx="8217000" cy="205740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Gill Sans MT"/>
              </a:rPr>
              <a:t>Participants:</a:t>
            </a:r>
            <a:r>
              <a:rPr b="0" lang="en-US" sz="2200" spc="-1" strike="noStrike">
                <a:solidFill>
                  <a:srgbClr val="000000"/>
                </a:solidFill>
                <a:latin typeface="Gill Sans MT"/>
              </a:rPr>
              <a:t>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ree schools, two elementary, one junior high, will be used to survey 90 students aged 9-14 and 10 teachers.</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Gill Sans MT"/>
              </a:rPr>
              <a:t>Instruments: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sent forms</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urveys</a:t>
            </a:r>
            <a:r>
              <a:rPr b="0" lang="en-US" sz="2200" spc="-1" strike="noStrike" u="sng">
                <a:solidFill>
                  <a:srgbClr val="000000"/>
                </a:solidFill>
                <a:uFillTx/>
                <a:latin typeface="Gill Sans MT"/>
              </a:rPr>
              <a:t>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p:txBody>
      </p:sp>
      <p:pic>
        <p:nvPicPr>
          <p:cNvPr id="340" name="Picture 2" descr="C:\Users\Merlene\AppData\Local\Microsoft\Windows\Temporary Internet Files\Content.IE5\2ESJOZ3N\MP900438680[1].jpg"/>
          <p:cNvPicPr/>
          <p:nvPr/>
        </p:nvPicPr>
        <p:blipFill>
          <a:blip r:embed="rId1"/>
          <a:stretch/>
        </p:blipFill>
        <p:spPr>
          <a:xfrm>
            <a:off x="1093680" y="4724280"/>
            <a:ext cx="782172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ferences:</a:t>
            </a:r>
            <a:endParaRPr b="0" lang="en-US" sz="3900" spc="-1" strike="noStrike">
              <a:solidFill>
                <a:srgbClr val="572314"/>
              </a:solidFill>
              <a:latin typeface="Gill Sans MT"/>
            </a:endParaRPr>
          </a:p>
        </p:txBody>
      </p:sp>
      <p:sp>
        <p:nvSpPr>
          <p:cNvPr id="342" name=""/>
          <p:cNvSpPr txBox="1"/>
          <p:nvPr/>
        </p:nvSpPr>
        <p:spPr>
          <a:xfrm>
            <a:off x="1434960" y="914400"/>
            <a:ext cx="7499520" cy="5562720"/>
          </a:xfrm>
          <a:prstGeom prst="rect">
            <a:avLst/>
          </a:prstGeom>
          <a:noFill/>
          <a:ln w="0">
            <a:noFill/>
          </a:ln>
        </p:spPr>
        <p:txBody>
          <a:bodyPr anchor="t">
            <a:normAutofit/>
          </a:bodyPr>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Agatston, P., Kowalski, R., Limber, S. (2007). Students’ Perspective on Cyber Bullying.  Journal of Adolescent Health ,41,S59–S60.</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oneva, B.S. (2006). Teenage Communication in the Instant Messaging Era. Information Technology at Home. Oxford University Press. 612–72.</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rown, K., Margaret, J., Wanda, C. (2006). Cyber Bullying: Developing Policy to Direct Responses That are Equitable and Effective in Addressing This Special Form of Bullying, 57.</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David-Ferdon, C., Feldman-Hertz, M. (2007). Electronic Media, Violence, and Adolescents: An Emerging Public Health Problem. Journal of Adolescent Health,41 (6), S1-S5.</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Dilmac, B. (2009). Psychological Needs as a Predictor of Cyber Bullying: a Preliminary Report on College Students.  Educational Science: Theory and Practice, 9(3), 1307-1325.</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Dooley, J.J., Pyzalksi, J., &amp; Cross, D. (2009).  Cyber Bullying Versus Face-to-face Bullying.  A Theoretical and Conceptual Review. Journal of Psychology, 217(4),182-188. doi: 10.1027/0044-3409.217.4.182</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eshbach, N., Roe, K. (1968). Empathy in Six- and Seven-Year-Olds. Child Development, 39,1: 133–45.</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Gentile, D., Walsh, D. (2002). A Normative Study of Family Media Habits. Applied Developmental Psychology. 25, 157–78.</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Gross, E., Juvonen, J., Gable, S. (2002).  Internet Use and Well-Being in Adolescence.  Journal of Social Issues. 58:1, 75–90.</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Hinduja, S., Patchin, J. W. (2011). Cyber Bullying: A Review of the Legal Issues Facing Educators. Preventing School Failure: Alternative Education for Children and Youth, 55(2), 71-78.</a:t>
            </a:r>
            <a:endParaRPr b="0" lang="en-US" sz="1500" spc="-1" strike="noStrike">
              <a:solidFill>
                <a:srgbClr val="000000"/>
              </a:solidFill>
              <a:latin typeface="Gill Sans MT"/>
            </a:endParaRPr>
          </a:p>
          <a:p>
            <a:pPr marL="171360" indent="-1713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171360" indent="-1713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1T03:06:27Z</dcterms:created>
  <dc:creator>Merlene</dc:creator>
  <dc:description/>
  <dc:language>en-US</dc:language>
  <cp:lastModifiedBy>Merlene</cp:lastModifiedBy>
  <dcterms:modified xsi:type="dcterms:W3CDTF">2012-12-11T11:25:02Z</dcterms:modified>
  <cp:revision>47</cp:revision>
  <dc:subject/>
  <dc:title>Bullying Through the Use of Electronic Media and the Responsibility of School administ</dc:title>
</cp:coreProperties>
</file>